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166-77A7-437D-970B-5675F11A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10B-E705-4689-B5A6-22AF0DC5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81D-AF0A-40C2-AD87-0DE9DBD7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E0D-DAB9-4FCB-A0DE-8E2002C2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533-315E-468E-BAE4-44BEC4CE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581-7936-4C14-8F49-B5476030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5AD-08C8-4A28-A04B-24E57BCE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590-550F-4EF8-815A-F097ADA3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F86-B012-4D97-95F0-15E23788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499-5699-40A4-8675-89F6D4FA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3B7-9632-439A-A7FB-EC06FE72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D0F-0E2F-418B-BDBF-D2534429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BA1B-17B5-437C-93EB-E85E28281B1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8 Pán Boh sa každému do srdca dí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sa každém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rdca dí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dí, kto lásku v ň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a kto hnev skrý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blížnych miluje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Pána prac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ú má cest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Božiemu mes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sa každém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rdca dí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dí, či radosť v ň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žiaľ sa skrýv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utný je, kto je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mu dá radosť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kto vždy ho chvá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v láske st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sa každém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rdca dí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dí, kto dobro v ň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to zlo skrýv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jemu v mlad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rdce dá z vďačn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mu on 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ynovské práv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41:43Z</dcterms:modified>
  <cp:revision>79</cp:revision>
  <dc:subject/>
  <dc:title>Je veľký náš Pán, on slávy je Kráľ Nech do všetkých strán  spev vrúcnych znie chvál.</dc:title>
</cp:coreProperties>
</file>